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D49-D0AE-4930-9C18-CB81482D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580-655E-4FB8-B596-248D41A8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9A9-45A8-41DD-8C94-8FBC3272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996-EE98-44F9-876F-649B9342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C168-1C8A-4EB4-B811-F75012D3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FE9A-1999-4CD9-BA28-2A9D8D48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8DB-1070-4E94-8F8B-1204E4BC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DCCD-16F6-4763-AB11-49D3E128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6512-1D39-42DB-BC76-8E645F4B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9A32-577B-4BDA-B49E-07F699F8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C258-62CD-48FD-9DB2-8717B81D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942-DF03-4739-B024-37BA6545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9177-0916-4661-8ACC-F97C4B44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E1A5-BCAA-45E9-B59F-9F158666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B1AF-2BCA-4A49-B004-961A9D3D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6817-8E8E-43F2-9978-AA327FBF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FFBF-32AF-4B90-AF6F-12175076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931A9-5F32-4A3E-91F9-E43E8994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8458A-2B3B-4DC2-993B-F5397487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16FD9-42AD-418F-B000-7708E5E4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149C2-A301-4E8F-A10F-D19C8B29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E5884-1588-4404-8CBB-2B49756D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ACB-E4B8-4979-ADF1-C9486F9D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ACDE1-EE04-458B-AF9E-AF0FA6B0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B956C-0566-45BA-84E7-0BC6A310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9D9C5-0355-48C4-9D67-0C459B49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D187A-1A9B-42A9-8C35-11AD086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567D1-860B-4C35-A358-B8C7E460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B6863-352F-44F1-A014-B9C7F179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17056-F082-4A97-952B-0695F944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96DE-800D-4A99-8061-2DFDB8C7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FCEA1-7B38-4637-83E0-6043C2F0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AC35-BF18-41A5-82E1-CA27BE8D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DAB-759B-4966-B662-35914745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B6B02-56CC-49CC-91C1-913C3BE6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A75E-DBF2-49A2-BAA7-FED3C6C3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F238F-A516-494A-8132-2750F943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00797-50F1-4FD1-9AC4-DC564B59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2D4A9-5138-4247-9191-04AE03E0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5152B-6176-489C-8D8C-AC5DE5D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7A011-FF89-4564-A295-E8BC429E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B704E-E1E1-49E8-B485-8AEAC2D6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35627-5157-40CB-8334-02793678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5FA44-7F29-4810-BDEF-26151E52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032-9777-4C4E-95C8-ADC17FDA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CA4E4-1E82-42D5-AD26-4DB14CBE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FD153-01B8-4C4E-9773-28981223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BDB87-7A74-43B4-8AA2-C54CB6CD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2F002-8A61-4C94-A54E-05582CF9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1E5C8-4412-4C96-BAC4-EA1A3730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5156F-751B-453F-8CB3-4E308B25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177AB-8BBC-4B9E-A23B-33CC0684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40838-20E6-4DFD-8C4D-30B39BF0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25E61-BC92-40D0-84C9-3431E050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418BB-96F5-4682-9EE7-65B2F254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85A-E6C7-4D17-85D7-A7146A5B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F4B18-D83C-465B-9CA0-B4A426A8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0D385-FDF0-4157-98E2-F0902DF7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BBEE4-1B7C-47AD-AE12-E2E7CCD9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01D42-C45D-412F-B117-CBF264F1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9CD06-C47C-485D-809E-C1E58C83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237D5-9886-40A1-96F1-3942391B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48D66-3226-4EB9-81EF-F9DE9EE1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4294C-3988-418D-A4D9-94DE61D1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9F301-C927-4135-AE28-A1C84D1D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6E977-7413-4AC9-B5F1-95B1F99B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D56-B6B9-4A50-8CFF-74A735E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798F1-DD59-41EA-8966-FF9E097A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C70FB-6F58-4A8A-BBF2-883B27A2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3ACCF-3AB0-4B0F-A3C5-5F9822AD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1F30F-04CE-4CA4-BFAE-77383874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84AD9-BC32-4AEB-AA53-440A224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60174-3E6C-424E-BE59-38AA0D52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7A1B87-2987-437A-A77A-71C379D0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00F7A-9CE3-4235-AA2F-EB33FE25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1CF3F-EBE9-409D-B323-7DFB10D7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26014-DCAD-43EB-A8C9-C0D9DFFD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E86-E5AB-43CE-9818-45E3CFA5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7C603-7967-4C51-A4FC-0552BFB0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9B123-C948-4E4E-8BC4-42C51A3B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D21C4-E341-43B5-B166-D01D8703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61260-60F4-45A1-8D6C-CDF28CFF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BD2CD-3310-4869-ABCD-A110D69F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A0C-56BD-47A2-87A4-03AFAA23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B902-E9E9-4925-A3DA-8FE64C6E1C93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61C3-3656-4399-9249-2A5CE72637F8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AC51-0993-4277-AD3A-6D76087E1A5B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7730-3BBA-495C-A7EC-0203281CF184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2334-C900-4667-80AF-E017F5313DE1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EF3B-ABD1-471F-A28A-C570537CA610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A41F-AC7F-4A5A-9A7E-4DD7C8AAF5D7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Bauhaus 93"/>
              </a:rPr>
              <a:t>ROMAN VILLA!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Bauhaus 93"/>
              </a:rPr>
              <a:t>BY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Bauhaus 93"/>
              </a:rPr>
              <a:t>NISHA ODEDRA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5" descr="http://www.gardenvisit.com/assets/madge/fishbourne/original/fishbourne_original.jpg"/>
          <p:cNvPicPr/>
          <p:nvPr/>
        </p:nvPicPr>
        <p:blipFill>
          <a:blip r:embed="rId1"/>
          <a:stretch/>
        </p:blipFill>
        <p:spPr>
          <a:xfrm>
            <a:off x="1785960" y="3071880"/>
            <a:ext cx="5286240" cy="330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FTING UP THE INSIDE ROO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n I lifted the roof behind my entrance wa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 lifted the nearer one to you easily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ut then the far sided one was taking a great deal of wor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 got it in the end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n I did the final roof on the far righ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15236" t="18751" r="25585" b="23126"/>
          <a:stretch/>
        </p:blipFill>
        <p:spPr>
          <a:xfrm>
            <a:off x="714240" y="1571760"/>
            <a:ext cx="511992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FINAL SHO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Y FINAL SHOT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rcRect l="12892" t="28129" r="5079" b="30628"/>
          <a:stretch/>
        </p:blipFill>
        <p:spPr>
          <a:xfrm>
            <a:off x="500040" y="1643040"/>
            <a:ext cx="7858080" cy="24703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Schoolbook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Schoolbook"/>
              </a:rPr>
              <a:t>THANX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Schoolbook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newsflash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MAN VILLA STAG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214280" y="2071800"/>
            <a:ext cx="5429520" cy="25225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4"/>
          <p:cNvSpPr/>
          <p:nvPr/>
        </p:nvSpPr>
        <p:spPr>
          <a:xfrm>
            <a:off x="1143000" y="478620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did the base of the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I did the roof of the roman v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that, I did the little squ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the roof on the littl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MAN VILLA STAG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 did the square and then I did the wall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I did a circle in the middle and pulled it down. The painted it with the water color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 did the grasses in the TT shape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rcRect l="16405" t="17811" r="24998" b="3435"/>
          <a:stretch/>
        </p:blipFill>
        <p:spPr>
          <a:xfrm>
            <a:off x="500040" y="1714680"/>
            <a:ext cx="3932280" cy="330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MAN VILLA STAGE 4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after the TT and then around the fountain, I drew the poll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then I did the little roof on top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I did the square and then the wall’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rcRect l="21094" t="27189" r="977" b="22190"/>
          <a:stretch/>
        </p:blipFill>
        <p:spPr>
          <a:xfrm>
            <a:off x="285840" y="1500120"/>
            <a:ext cx="621828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KING THE BEDROO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24490" t="9425" r="37246" b="21699"/>
          <a:stretch/>
        </p:blipFill>
        <p:spPr>
          <a:xfrm>
            <a:off x="3357720" y="1357200"/>
            <a:ext cx="4071960" cy="45817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5"/>
          <p:cNvSpPr/>
          <p:nvPr/>
        </p:nvSpPr>
        <p:spPr>
          <a:xfrm>
            <a:off x="285840" y="4857840"/>
            <a:ext cx="385740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fter finishing the garden, I made 4 big squares and  in them 4 tiny ones. Then lifted them u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6"/>
          <p:cNvSpPr/>
          <p:nvPr/>
        </p:nvSpPr>
        <p:spPr>
          <a:xfrm>
            <a:off x="5473800" y="3657600"/>
            <a:ext cx="39600" cy="1719360"/>
          </a:xfrm>
          <a:prstGeom prst="pie">
            <a:avLst/>
          </a:pr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7"/>
          <p:cNvSpPr/>
          <p:nvPr/>
        </p:nvSpPr>
        <p:spPr>
          <a:xfrm>
            <a:off x="4400640" y="4425840"/>
            <a:ext cx="2208240" cy="36720"/>
          </a:xfrm>
          <a:prstGeom prst="pie">
            <a:avLst/>
          </a:pr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KING THE ROO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 only did 2 rooms and made the wall see through to stop the hassle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 each room there is a brown bed and a blue room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lso there is a dressing table and a little statue of some sort.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9696" t="10341" r="0" b="6903"/>
          <a:stretch/>
        </p:blipFill>
        <p:spPr>
          <a:xfrm>
            <a:off x="928800" y="1928880"/>
            <a:ext cx="39909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ING THE EXTRA PLAY GARDE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fter the houses  I did those square like floor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en I did the walls  of the vill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 also added the color to the rooms if u can see those blue squares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rcRect l="33986" t="6562" r="0" b="0"/>
          <a:stretch/>
        </p:blipFill>
        <p:spPr>
          <a:xfrm>
            <a:off x="642960" y="1500120"/>
            <a:ext cx="3687840" cy="3262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SHADING ARE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fter the extra gardens I made the shading are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irst I made the polls to support the roof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en I copied each one and then placed them in a sort of straight lin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en I put the roofing o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is I had to do by free hand and I have at least five layers to be able to have enough support for the final and better looking laye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rcRect l="6021" t="11239" r="3676" b="24548"/>
          <a:stretch/>
        </p:blipFill>
        <p:spPr>
          <a:xfrm>
            <a:off x="500040" y="1357200"/>
            <a:ext cx="642924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DDING COLOR AND PLA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 added the color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 to the paint tool and I foun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ome green gras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fter that I left the shading are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e same col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en I went into Googl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n Sketchup and found a ornamental plants and placed it there.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rcRect l="22135" t="10593" r="0" b="0"/>
          <a:stretch/>
        </p:blipFill>
        <p:spPr>
          <a:xfrm>
            <a:off x="500040" y="3857760"/>
            <a:ext cx="3948120" cy="2833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21:12:16Z</dcterms:created>
  <dc:creator>Diocesan School for Girls</dc:creator>
  <dc:description/>
  <dc:language>en-US</dc:language>
  <cp:lastModifiedBy>Diocesan School for Girls</cp:lastModifiedBy>
  <dcterms:modified xsi:type="dcterms:W3CDTF">2009-09-08T23:27:52Z</dcterms:modified>
  <cp:revision>27</cp:revision>
  <dc:subject/>
  <dc:title>Roman Villa</dc:title>
</cp:coreProperties>
</file>